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1.png" ContentType="image/pn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30C2-31A6-44F2-9CD0-AF35627B3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2334-2A83-4A90-A60D-B99C7ED6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21AE86-564F-4BA5-92E9-FC0CE151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7693AB-E7F2-4747-BD8C-1878309E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3DC547-73FD-4EE4-AE2A-490A32A4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4E5229-049C-4548-8310-8C38EA6A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56A407-EA80-41DB-966C-AB1D6F77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ACD288-3769-45C7-BD6F-8C1F6D97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3498FF-A5E7-44DD-AAA7-77EC2C0B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830723-3E1E-488F-9C17-1A9D8985C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451B18-29DA-4008-8DBD-CF9280A04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E8BC59-E8FF-49BC-8452-716C27A1B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0890-608E-43DE-956D-0E82F266B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2A4636-76ED-4AB6-995D-A8B6BA76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1334E2-27AE-43C7-8F15-39C1754B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103DE8-EE14-4E00-9B0F-DC58BA89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B8E292-44EF-4D2B-BE23-989DE554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C68DCF-B03A-4317-88C5-54B97438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85F1D4-6F7D-48D3-A9D9-81D97174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6F75EC-977C-4F91-AB14-733A13D6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A161B7-BDD0-452D-B989-0890A774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112CA8-79BD-4B20-8D32-8A7E7CF7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5F3D31-486D-4EDF-B272-53C2FDDDA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BAC3-AF94-427B-87FD-302CA6489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3638C7-A383-43A9-8A64-9FF18DB6A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E76EC-8F4D-4BB2-B749-26E19A754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50D0F3-35CD-4016-8D5E-03A1119B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74EDBC-285E-4268-93D9-A28627DE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C8D51-4A30-4ED5-ABA8-F7F92AE5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4C0321-F44A-4C4C-AF5E-737F8BF2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E8926-5266-426B-8799-D93936FD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70506-29D4-4F04-B5B1-D98E1398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24526-0CC9-4AE2-B44D-DEDBC245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DAA2A-CD95-4C9F-A922-7C1E5246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C3D4-B717-43C9-BA42-956C7B6C2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BD2AC-FB37-4489-A72A-B19E575B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FCF86B-AF3B-45DF-B0F7-14017E445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98B54A-701E-4486-8A5C-EFCDB3813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4E4C4D-5123-423B-8FE5-33710E612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122E30-7FF3-47D6-959F-0A903660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1DC917-4CE7-47F6-B3A4-AB24572F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2715A6-4BD3-4E2C-83B7-3AB6450F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D3D79F-FB2A-4444-8A50-766C1BAA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ABE086-7649-4C5F-9141-482F744D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46B215-8CD2-4D13-904A-6AADD90D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15A9-88CD-4CC8-B227-C7CCDFD6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5D0114-9630-42F3-ACA6-9869FE50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99F814-5450-41FD-BDB1-4294CDEB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49A7F8-D85E-46DF-82AC-A012D25D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C04205-A5E4-42EA-99D2-DAD9A69C8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45E905-D3C4-4781-BFCB-F3C67D273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08E78D-0160-423C-9AEC-2B016F19E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4AF825-11CE-49DB-9ED0-776BBD7A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58A80D-5830-4EC6-B3DE-375B8C37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8441C2-83EA-4CCE-B1F2-93082A10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994A51-6182-4A39-A7CD-4E3F2F90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50400-7025-4AAB-8640-12372C08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F6548E-BB91-4578-8CD2-B666401F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5E7B69-F51D-4021-A417-4C3911C4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204A1B-6C52-4372-8084-A7C500A7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C5FC99-4B2A-4FB7-B1E6-BABD6AC9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2AA808-EC3B-4A4B-8078-42005FE5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FA2B72-3B94-415A-8342-83201EDF4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F7149E-2EF1-4D2C-AAC7-719292645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85D70F-C833-488C-A20A-984DCD02F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DE15BB-5609-4C58-AD75-22E4A0FA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3F7E79-7736-48A8-9CB7-ADFA8AED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16D3-19B8-4C05-B648-8A45979F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5D8EF4-87B1-47CE-BD84-357A2D89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E384E5-089D-4000-876B-12AFAF09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D7337D-64FB-4A99-BC2E-63CAF1CA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EB4BD1-C58A-47FD-9DB9-BB744EF6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812EF0-C1A2-4059-9B48-A2A93B26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8FD752-890D-4B21-9711-7E1AC077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919550-0116-4EEC-99C1-01093CF2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0B5574-4AFF-4536-BFAC-71385242C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57CC7E-81CF-4E92-AB29-8D63C2A8C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CECEF1-D6C8-4C31-A0A4-9EC6F3F1A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07910-F892-4FAD-95D9-2FF3B6A1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6987A0-BB57-4A93-8115-8A7DC4EC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43F061-0832-4A2F-8274-B315A9F3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4B04C5-4B7C-4336-8435-E11B3FFC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875F9C-7789-4531-8D5C-40E37FA4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5D3C63-4D0C-493B-A544-82FE68B6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21764B-C8AC-47E7-8942-D70EC573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07CC31-1D2E-41B9-9C56-9C3BDF4B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E8DFF6-1DD1-4F06-9231-CCF523D4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FF9625-AE19-4306-B2E4-71842D77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D9FD7E-6C7F-4E20-99A9-6D4E53B09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79FB-2BAB-4C2B-BC40-050ACC06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C8228C-4D14-4841-B86E-42001464A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A9DB35-3F4E-4B5A-A696-D1BBBB460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A24B45-CB9E-4A7C-8F6E-8EA3771F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2D0E9B-662D-46BC-9F17-FE83A224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190398-AD96-4D5F-9A12-16882FB7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A6889F-0F07-4615-B654-A2F73846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531A06-ED98-4226-A921-160F6E1E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92F46A-6301-48E1-A85A-B9596E91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622914-1894-47A5-A2EF-9B4D9CBA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9D1BB3-323D-4F53-8D76-690687F0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FF4C-7EDE-4DDB-A164-02B05EE7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92F538-A462-485E-8D1A-2687AEA2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FB69A2-BC43-46B4-8579-D260CF0BA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80B1DF-E1AB-4ECF-8E81-22E0D26E5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0B9E90-E240-4623-97CA-14D71B3F6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0EE5DF-3C07-41E8-838B-5778BA23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0A3272-A7CF-4C03-9B6B-BC398C51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AADA55-EE4F-4E21-B0AB-3C4805D1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8539E1-05A5-44D9-9466-2B5D92A3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C9D41F-CBC8-4B60-A2B7-17305D96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29EACF-854F-4184-90AE-A462F7E8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AC6B-B3D2-44D9-B405-F1A7972B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0677-BBC8-40AD-90BF-5E99947D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416C84-269B-4BCF-BCF0-E6CCE36E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B7A0E8-8C01-4476-A106-8944F354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E50A67-35AA-4575-A85C-4D5E32CE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EE9436-A7C7-43A3-B353-0F795647F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AED8C3-9A89-40D7-9847-EEBD22F01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8B7A14-6B43-41AB-85BB-E8F8AEA30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DA2CF7-480F-478F-ADB4-7D53A89B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E075F1-377F-4458-A6E3-9BD1D337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A39655-2E89-4BEE-A12B-F2B2746E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A5AE13-DC58-4D45-8D0C-BD8A689B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7720E-1D8C-475A-911D-2330A408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433E03-8FB6-4E6B-8010-639436D6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662CD6-E9C6-450B-8EE0-98E92023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A1EF02-452D-4A4A-81E3-C9259FB2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EF649D-9F91-47A0-A9CD-F8A72257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E48F6B-CEC6-4875-A0AE-06C2A8A0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4FE9B7-3C7A-493A-9979-83A52E625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E02DF4-6F44-4363-B928-DE17A5D5E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E2E2A7-E7F9-4E11-80C0-5E1990B74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BE79A6-8D6D-4F52-977A-549FE2DA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E2732C-563F-422C-AE99-1B1AD55B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0095-5BF8-483D-B5A2-6328876C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04CD1A-29A9-4FB3-ACC4-DC379653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1E7A19-1C63-473C-8CB0-E9DD1051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2E21E3-F319-443E-8D36-357C870F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820B7F-E94A-4415-9C55-CD21F345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75A866-AF88-4B0F-9FE0-7C1CBA2F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F77736-8E30-4716-A676-85A0A70F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E9C521-5E6F-4379-8C82-AE51FBD1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442CC1-A9B9-4466-81A8-688B76120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AA515F-432E-4C6C-9277-3C759E94B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284F71-6C01-4379-997C-D2EE4B8B8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BCB5-BC4A-4126-8408-B9487ABD5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22D2BF-22F6-4054-BB63-45A7514B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E3C6BA-F919-4E99-85DE-ED560C4B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AA5293-DEC2-4C8A-9794-DDC7370C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BFA648-BE9E-4944-89F8-5E72CDF8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FEC0B8-5B07-4AD2-BC1D-3F3161E8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C6FC3B-E430-4503-86EC-FDEEC68A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F549A3-F12C-49EF-9FDF-FCB2D14B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E8602B-516E-4483-B0B9-6F4C90D6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8FA23F-68B5-46B4-A37F-A69AF0E7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7ED122-D556-42EC-B801-6FA3A71C6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7DDBB-F0F1-4B43-B88E-7C15996F6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54343A-B2C7-4905-8F5D-22E54E787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E26357-1B37-48C0-9F93-E7D4D268A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B933E9-86CD-4E9E-8011-5583B6B4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AB590A-3EDB-47A7-826C-E634B6D5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6DF920-A712-4EDD-A1B7-CE8BF10F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911F94-6708-4956-BE99-111C160E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7D8D74-3BEA-49C7-BF24-6F039912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502B61-C9FA-40D9-ADBB-657943EB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8B21D2-C0C5-4199-A777-D33198A6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E3F248-677B-4987-B44D-AA9EC591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B86B9-F81D-4F4C-B498-C78EB507A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D9258A-B8E9-45CF-BA46-24D3BD1F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6C45E9-622E-4E51-AADE-E6994D3CF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38D496-334C-42DA-8A47-61685C92C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CE4326-654D-4778-8B0B-F82C46DC9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2BDD4B-76CC-4318-9DD7-41528267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3B99B7-098D-470E-AD36-CBD21D08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51FD18-7CF3-4DAC-8273-9A982921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E33E6F-9E44-4B5A-AB32-EA8BCCCA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2C519F-E26E-46D2-8625-F438B8C6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E3C86C-516D-4ECF-A443-AE7FFDBF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CDC49-6849-4759-A24D-507DD258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E17748-B4FD-4D97-836D-1C288DA9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8C9EFA-A603-4D3B-861D-1B262F50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AC3000-BCEB-4BCB-9282-83C6ABD5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ACBCC8-95F4-4C4F-844D-6F327F2D1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BD6AA3-31F9-418F-9AB9-7664BC025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315802-7F7D-4CDB-8F9C-21CF73BCF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7B50BB-4E10-4B9A-90B3-52696A49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9CADFF-5D00-490E-9F31-3698D290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4E3AB3-869F-44C2-989D-4805F2C3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092242-1576-456B-B722-6B6B47EF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E0EB6-DC5D-4FF6-BBA2-6197EE7E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29B0CC-1304-402D-BA57-9CEB473F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2FC365-A34A-4E87-8180-8B0E0057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A79125-00CF-4B5D-A3ED-832FF5BD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0CF0A5-BF8F-4F89-920C-654A78A6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182355-6BB4-4A49-9B73-5254DC43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8A7491-7BA9-4846-ACC0-A3C6E9958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9ED989-68E5-457A-9396-62739E6E8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5D37B3-937F-4565-8989-198649E41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74F409E-F5B0-4DBE-BD72-D7B674EB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C8220C-ED04-4497-BE03-0DAEEEF1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FB316-7814-4216-AFB9-CEC12CF2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B917375-24AD-4ECC-BB8F-FD34890A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BF5130-6AC0-447C-9E2B-962D7512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862A98-2E78-4E5C-9BC8-BD718CF8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98D09C-096B-476E-A995-80DEC426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EE250F-CDED-44AD-ABA7-75355886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E2136C-0957-4E82-9E3E-7E075BC1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9A2891-F089-417B-A6F6-35AF4BCF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72A3E4-896E-4680-9FE4-58CEE0CE4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41BDBA-F642-484E-AD8D-A97A09135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A6FB80A-EF5C-4FDF-9A22-EB3F75432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F3F2C-759C-4402-B4D5-E37218C5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BBE1324-A88D-4685-8125-F64E72AE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426CD28-00D8-442B-A123-DFDF5FBA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0619AB0-BF01-4ED8-A5AF-9672B49C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4C8979C-2EC9-4A0E-B720-B308119C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61F3812-1F48-4DDC-91DD-BC0A47C0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D86E4E4-BDAC-40EE-9201-7181B3DC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F53168D-B50A-4340-BA98-F5A3BC3F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CDFE5D1-AC18-4928-9791-07CF5E30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8510AE1-FA1F-4EE7-87D6-DE342728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EFA1C00-171C-4B24-82BC-E678DCF93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D96E-6000-43C5-957D-E08CF128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E35A4-82F4-407F-83A2-38725023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895CBD9-CE81-4054-9AC8-E91D8467E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9A65D99-3C0F-4412-B303-193D319A1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2D2560B-8C78-4696-AF5A-04C44944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CF85187-0852-4EB7-9631-769B677D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E3D11EC-AC0F-463B-B31C-DD4C5638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0C56929-6115-4B76-9727-A1BAA2ED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0D78B3A-E87F-4A70-BC06-BDA7A273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F6AD5AA-AA8A-46AB-8BF8-1F77064E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234455C-EEEB-4CC3-A0CB-266CC4E7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895499F-6562-436E-B6C7-0B0C7630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F5C5F-A355-4FFC-912E-0074FA44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11301A8-DA6D-4B7D-AB5B-D7B528BC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CD8B463-D1D4-4752-A19A-D40279D4A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FECF3D2-F7C8-4403-AA89-B4F833A83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B61018D-0CD7-48EC-80BB-33E4D462B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029A411-0D93-4EFA-8F85-C100077A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EB0DECC-AC87-4E8D-B7EE-27090128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AE192AB-E3DA-4DE6-AB75-7EDD7C93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32C5C45-ACE1-4E45-91F6-9EF0798F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520432C-FA97-4815-AA87-8BBA00DE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E3B53F0-CA26-4970-A95B-88808A07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A9E97-3F13-4B1A-BFDE-BA3FDA01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CBEF73E-B33B-4F33-8CCA-015D1AB5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64051D5-8650-46F7-830B-70FF65CF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D453611-4712-4E5B-9FA0-45593157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BB6806D-B90A-4740-936A-789CE3F67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3BCB6C0-A6D7-4E46-9B8F-3E9E14E79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75D2D-4120-48D5-81D0-5BE8D1B5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303FD-F442-4450-A83C-6FD0DE37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83FC5-2479-4AF0-BBD5-BECA0521C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5774A-6FFE-4FF1-86AE-DA95AAA8B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1324C-CEA4-4B75-93FF-789126972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CA639-62BE-4B3F-AC88-4E001BF1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21120-5F39-408B-843D-75429764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FD3D-0BAC-4296-8D5B-59428C5E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64CBE-7E46-4559-A3F8-D5F90C5E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1A240-6762-48E4-9179-FBA1B4EF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895B5-9DB1-4F80-88E6-4D61E94A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72E9F-E85A-4D5E-87D0-CE57CDC7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DE16A-EE33-4AB5-8224-3D7AA811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5A4C5-9FEF-46FF-BDAE-ED9A393A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7CCF9-0EAC-41F6-908B-BD905D3B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C4DA6-606B-4119-922F-4A09A4D15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C4F6A-2E43-4770-91CC-30F43831E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DC85A-FA8D-40F6-854E-E2847DC6D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0F50-BD44-4EED-89B4-E178FC46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73734-9B05-4ECF-8029-DF0EA6A4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4A14A-E935-41D0-9CA0-3F795E3D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81AF9-2E1B-4126-A8A8-395AAC68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A39B5-452C-45E4-A5E5-432856A4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CF8EF-B32E-4C39-861C-84D5F7F0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977EE-C67D-4FF8-9B2C-E625F1F4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4B5B1-6615-48B1-A559-916B98E9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DD114-9836-469A-B3D5-15667608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8E9E9-9F0D-4442-82C5-70940ED5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B2AF3-CD74-41BB-BF9E-B838939BA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56ED-90E2-48A4-BCEA-8C58138D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0E519-1A0B-49DC-9EF4-8D0255A02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CC1AB-1011-4FBC-A708-853528013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88318-594A-4DA1-9341-D18D0933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D33C8-A2EC-4E47-9FDC-E1D18DA9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30688-7C32-4A3D-8B23-3E6BA4B5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487EA-4144-41CA-AFD7-11FFCAF4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055EF-7220-4DC8-A4CB-99C3D948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D5C30-0204-433A-94E1-C92C544F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9BA03-8080-4B63-BD53-F0C95AAB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3C9D3-6ADC-4CE8-8137-A8580478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84FF-6ED8-4271-8252-256850B3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4077A-4E7C-4CCF-A98A-E9CCB8C2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99AA4-0314-4D1C-9D76-AFD4188CE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CCF27-64E0-43D7-9E7D-880D121FE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E3F39-4AA3-4524-A502-59A62DB78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9D8C5-CD46-4BB1-A8D8-07754434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22572-3C3F-4F5D-96C8-81B2268A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13F9D-C8A1-499C-92A5-AADE4E6A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CC63C-5CF3-4B63-87DC-55429BEF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2CD6C-21AE-4387-B271-1A46D9C5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4071D-A4E6-419B-8D93-C2B0023A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0A60-ACDE-487C-AE37-03E2E6F6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31606-75CE-4EB8-BF0F-958C9EAB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29D60-1898-458D-962F-761120D0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3BCF4-6FD0-4211-AB34-2520B678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826F4-846F-4CC6-9EF2-5884E5FF9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73D83-DDEC-49E0-B8C6-F52D5032E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3247C-EC2A-490F-83B1-1A758EBB3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8EC5C-1DE6-4F57-BBAD-87C4626E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B37B6-E613-4669-8A53-2B2DF9CE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44569-25C5-4B63-B2A7-469D65C8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775B8-5854-4ECF-8F82-903FA591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79C7-5C75-400E-8BBF-E49D4A8F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FD859-FD87-468E-A112-45C5A535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35FDF-CC5E-44BC-9F05-16393F92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4D66B-F208-4026-98F9-ADDEDDDC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102F4-F70E-49C2-B566-CCF185D2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BE891-82A0-43CE-B44C-C8788DD9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DC5DF-2124-4A78-805D-9A15CEE3D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5FAA3-9BDC-4E45-B27E-37F7FE4FE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0F722D-8276-4AC4-8DF8-13BF90AC6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5E6D3C-A9F9-4437-8926-974F1DE3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999CBC-B9C9-4F6F-90BF-B4B79D00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FF53-F052-4615-B683-D8BEDB8EA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27F2-B783-4FF8-859A-EC04670C6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FAEA-BD74-4C46-8760-07E1CC2FF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4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EC3C-A283-489E-9E64-A78C16558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2685-B03A-44AF-9557-79B05143A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BD30-5C18-4BC0-B276-20B5FD7B2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854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DB2F-66A8-40E2-B5C1-4D246253A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DF0D-C35F-4B4B-9079-92442A094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6ECD-83FF-4603-9303-3FC386460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6854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D106-317C-4BB1-8A5F-AAD7313CF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6FC6-23B7-44B4-AF48-0894C98E3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5336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2A94-9741-4EF5-9AC2-9E1861679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FE51-11E5-4857-97BF-387761453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F6F4-7827-4B9D-9844-123D9E5A2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FB6F-918A-49ED-AC6C-5FE3D4710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DA65-63FA-4F5A-82C5-833978E09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F8E1-EB79-4D7D-83B6-71801836E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764F-6082-430A-87C4-E45907C62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1FC8-CCEC-4722-A7BC-966AB0960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A329-4CD0-4080-A145-0AC380A60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7841-787A-4378-8D20-74275C594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5D15-D19C-4170-83BF-4BDFD5319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5336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8BA5-EE0D-49C0-9AC5-DD58B63D0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DA9D-F254-45B2-8C90-D03C4C2CB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6A4D-4ECA-468E-A40C-3C12E3030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5336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D15B-B58C-47C5-8C4E-278357BCA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FB78-7CCE-488B-A416-2C3A3633B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1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1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1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1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1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1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2.1: Linear Functions and Equation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uary 14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ze exact and approximat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graph of a linear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a table of values for a linear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data with a linear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Exact and Approximate Model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ct models correspond with the data exac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models can be used to estimate the general tr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3" name=""/>
          <p:cNvGraphicFramePr/>
          <p:nvPr/>
        </p:nvGraphicFramePr>
        <p:xfrm>
          <a:off x="1600200" y="4114800"/>
          <a:ext cx="2200320" cy="225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4114800"/>
                    <a:ext cx="220032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5" name=""/>
          <p:cNvGraphicFramePr/>
          <p:nvPr/>
        </p:nvGraphicFramePr>
        <p:xfrm>
          <a:off x="5334120" y="3581280"/>
          <a:ext cx="2200320" cy="2257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1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4120" y="3581280"/>
                    <a:ext cx="220032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Representations of linear functions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f(x)=ax+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is the sl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is the y-inter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 (constant rate of change)x+ (initial amou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9" name=""/>
          <p:cNvGraphicFramePr/>
          <p:nvPr/>
        </p:nvGraphicFramePr>
        <p:xfrm>
          <a:off x="5791320" y="2590920"/>
          <a:ext cx="2943000" cy="30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2590920"/>
                    <a:ext cx="294300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Finding slope and y-intercep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graph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=10x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3" name=""/>
          <p:cNvGraphicFramePr/>
          <p:nvPr/>
        </p:nvGraphicFramePr>
        <p:xfrm>
          <a:off x="3962520" y="1676520"/>
          <a:ext cx="2943000" cy="30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2520" y="1676520"/>
                    <a:ext cx="294300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Finding a linear function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572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start ten miles from home, and then drive 50 mph hour.  Write a function that shows this sit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 function that passes through (2, 4) and (3, 10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 function for this 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7" name=""/>
          <p:cNvGraphicFramePr/>
          <p:nvPr/>
        </p:nvGraphicFramePr>
        <p:xfrm>
          <a:off x="5243400" y="2286000"/>
          <a:ext cx="3638520" cy="373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43400" y="2286000"/>
                    <a:ext cx="363852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Your assignmen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82-87 # 2-10 even, 24, 30, 32, 34, 42-52 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8:51:38Z</dcterms:created>
  <dc:creator>nuhs</dc:creator>
  <dc:description/>
  <dc:language>en-US</dc:language>
  <cp:lastModifiedBy>nuhs</cp:lastModifiedBy>
  <dcterms:modified xsi:type="dcterms:W3CDTF">2008-01-14T20:05:04Z</dcterms:modified>
  <cp:revision>4</cp:revision>
  <dc:subject/>
  <dc:title>Slide 1</dc:title>
</cp:coreProperties>
</file>